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7CE3-0683-4D13-87D6-C4E636D3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83C1-AD61-4879-9329-EEF799E5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9C4A-3437-41E8-B898-06D36F4EA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61F4-1239-4107-9DEC-30A617199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C18B-E14F-40E8-948A-3F4BD4DFC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A7F6-5BDA-467E-8680-508BB3A3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18E1-CAD0-4C83-99E7-DFC4F4F6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8C88-D24B-48BD-BA7A-A24EEE67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3A18-05EC-42EE-9FD0-A977B858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594B-CB93-4647-8D94-073AB117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80E5-735B-413E-9FB6-5C2CF68E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3A60-7166-4D67-93F7-C010EDD9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6367-D1E0-4781-B756-1A9CCCE7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C6CC-91A4-4B42-BAD0-C72EB325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DD9C-3A17-449B-8CC6-B722E570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29DF-B6DC-4657-AF28-FE1A4B17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59EC-0700-47F3-A4E9-032A70B5D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614FF-1EAA-4FB4-B764-8C7559A49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FE368-CB11-4D10-9E4C-9C729207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01FCD-C7CC-49D5-9F6B-019529F4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966EE-7AE4-45E7-9905-7455ADAF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6BCBB-9478-4BBC-B5E5-F042BF39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7106-53C6-4A9A-A91F-5B152B03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EAF41-4DC6-4A20-889C-294F63C5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9F8A3-6AFA-4BA4-92C4-A9F835D9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24B33-CB06-4249-939D-DF22E895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B40AF-0426-4232-97FB-E38B9C7D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8B0AD-5839-457A-8DA3-97A91C21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91ADE-A811-438E-B3A5-AFF88E917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20C88-4DC4-462A-A4E0-C8C5C9FC6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C844BE-B82A-4827-998E-D1391FA3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53D345-2179-4F76-ABB1-70100A81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2D3A03-E10E-4394-BB69-DF631004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BEF8-B5B7-4A84-8327-734ED475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3DDC06-6D4D-4971-BDB2-20928089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82C814-85FA-4404-A207-E8D50CDC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9EC8D3-0425-4808-8BD4-225849D0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3B4D9C-B686-4DF1-A83B-ECF56BF3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95D929-7B8B-4B6E-9FBB-E1618290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9E022D-7212-41FA-A338-69F229DE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067300-D6FE-4530-9F23-406E271E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47F67A-4720-4CA0-873D-DBC4EA7F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1B612D-1AEC-484D-A7D2-5DA3D098F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40C24-9070-4E82-98B8-B248AB9A3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5351-3043-40CD-A87D-A8C821E6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575AA-65E2-4D81-A526-40B3DC80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D6E90-CA9E-482E-9E28-1535B655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DF2FB-75F5-455C-B809-42A872CA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719AB-38AD-4CAF-8D27-BD4CD5AB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6B7DA-BCAA-49F6-9EF4-AFBA3637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693B6-1290-431F-A980-8979E213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6AAF7-A988-4FCB-9520-15419315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218EA-068B-4264-9E11-0B044D0A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FC211-5844-4F71-B102-CC4CC1E5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EC737-AE1C-4B83-99A8-0FBEDABBB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A146-2FD2-4088-A631-A2D4F9E1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1827D-C990-47B1-AFB7-9699392A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49078-9FC0-4C60-A61C-661EC65C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64C54-01A6-41BA-A33E-89DFCF04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F083D-B05F-44D4-A1CD-0A8E4D8F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D7557-F06A-4E6B-9B59-058DF721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F0B8C-402B-4A4D-8054-0FF42B7F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732A2-6BB2-4C38-9E2C-4517BA02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7925C-0C15-497F-9AAE-4A45A1D0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EFDCD-B0C5-4335-9FF4-130E7BF0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1ABD1-9896-4B0B-B781-8591A977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E91A-237D-4311-A6B5-A28F13B0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40F24-8AD3-4FEF-804B-CCE520F5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B78CF-1E7D-4DBD-9387-DC68B174D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FCD0F-C030-4B9F-94BF-0267991B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2230CA-9988-4E23-929A-35F9FC4E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F65D1F-C15E-430A-8A13-9CD24F85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787441-9F85-4B71-B8EB-C671E423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9D7321-2E81-4A55-8DC5-137E3DA3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8B588C-3A33-4F7F-89D6-C588FA48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779D11-810E-4D43-83E5-1024CF9C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28F0FF-BB82-401C-B1AC-A22B0ADE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4856-7D06-4227-BE4B-052494A4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03F325-88E2-462F-9545-4D30CA1B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9D43C5-AC93-487F-82DB-D26F6698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4E3EA1-E8EA-4D07-A1D8-7BBB27B2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6414F3-C12D-4755-8135-3CD70684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564D0F-396C-412F-9919-2B6E38C8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A6CAE-96EC-45EA-AECC-B5A0EB98B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86F19-13AF-4065-8F5E-47EAC9F5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94C08-43DC-4344-A34D-A6985B5C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1449E-83E0-4051-9E23-F43C13BA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07A5F-7970-4E5B-BE00-BE139E29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A083-1137-47FD-948D-E1FB5EB8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462E7-DE00-4DD0-9CFE-603EBFF9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45554-CA5B-4DB2-AFBC-06A5FCAA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4D29B-4C88-4F82-8D13-508806E1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4E5CA-8A69-4E59-BE6F-4842D9B3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5BFB9-1085-4851-A566-97541DB5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BF891-AD17-4752-B67E-8D9009AA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29BEA-1022-45EF-A42F-505829FFF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99AE-4BB8-44C8-B461-7E51A2C4BCD7}" type="datetime"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970A-5213-4115-BE53-52D9CF627F1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CD2B-0B27-48F0-BEAC-44123023D8FA}" type="datetime"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5BAC-56E4-49E8-ABAA-9E8C1B0498A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DFE9-C3E5-4457-A42D-217EA55A32A7}" type="datetime"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DA4F-FEEB-42A0-8984-200357ADF3C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6377-7F42-4501-9412-6C1D18C1D52F}" type="datetime"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49C6-C61B-4769-93F5-2DD2E5EB8E8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0038-C7E7-48A4-9CAE-9E8966BCDF4E}" type="datetime"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B3BF-6863-4DBD-9F00-E632310DB9A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6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ADE9-C1CA-4CA4-9113-D10DC5C58D3E}" type="datetime"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7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8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CACD-6EF8-4635-A483-8342057C13C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D49F-0F7F-4A07-8374-F8D64B80EBF3}" type="datetime"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2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E905-8CE5-4170-A18C-16704692026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ftr" idx="2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2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5C85-E6A4-44FA-99F9-014106843D99}" type="datetime"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63F1-FCE6-4A9F-84C1-7E58498DC9E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Тема урока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6840" y="3900600"/>
            <a:ext cx="8186760" cy="21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Georgia"/>
              </a:rPr>
              <a:t>Спектры. Спектральный анализ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0000"/>
              </a:solidFill>
              <a:latin typeface="Trebuchet MS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213840" y="1214280"/>
            <a:ext cx="8929800" cy="535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пектральный состав излучения веществ весьма разнообразен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се спектры, можно разделить на три типа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.Непрерывные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.Линейчатые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.  Полосаты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Номер слайда 1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86CD-4537-44B0-BB3B-4D3DB1460EE9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rcRect l="0" t="0" r="13228" b="0"/>
          <a:stretch/>
        </p:blipFill>
        <p:spPr>
          <a:xfrm>
            <a:off x="3429000" y="2571840"/>
            <a:ext cx="4919760" cy="6411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2" descr="http://rushkolnik.ru/tw_files2/urls_3/1057/d-1056311/7z-docs/1_html_m7a5538ba.jpg"/>
          <p:cNvPicPr/>
          <p:nvPr/>
        </p:nvPicPr>
        <p:blipFill>
          <a:blip r:embed="rId2"/>
          <a:stretch/>
        </p:blipFill>
        <p:spPr>
          <a:xfrm>
            <a:off x="3357720" y="3162240"/>
            <a:ext cx="5786280" cy="1766880"/>
          </a:xfrm>
          <a:prstGeom prst="rect">
            <a:avLst/>
          </a:prstGeom>
          <a:ln w="0">
            <a:noFill/>
          </a:ln>
        </p:spPr>
      </p:pic>
      <p:sp>
        <p:nvSpPr>
          <p:cNvPr id="435" name="AutoShape 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Picture 8" descr="http://chemistry-chemists.com/N5_2011/U11/spectrum_of_sodium.jpg"/>
          <p:cNvPicPr/>
          <p:nvPr/>
        </p:nvPicPr>
        <p:blipFill>
          <a:blip r:embed="rId3"/>
          <a:stretch/>
        </p:blipFill>
        <p:spPr>
          <a:xfrm>
            <a:off x="0" y="5286240"/>
            <a:ext cx="60721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Непрерывные или сплошные спектры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1071720"/>
            <a:ext cx="8929800" cy="55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ают тела, находящиеся в твердом или жидком состоянии,  сильно сжатые газы, которые нужно нагреть до высокой температуры.  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Распределение спектральной плотности интенсивности излучения от частоты имеет максимум при определенной частоте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el-GR" sz="28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el-GR" sz="2800" spc="-1" strike="noStrike">
                <a:solidFill>
                  <a:srgbClr val="000000"/>
                </a:solidFill>
                <a:latin typeface="Georgia"/>
              </a:rPr>
              <a:t>ν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Georgia"/>
              </a:rPr>
              <a:t>max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2F59-63B4-40AC-B2DA-499CE6628A34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Picture 2" descr="http://www.fizika9kl.pm298.ru/Image/ris47.gif"/>
          <p:cNvPicPr/>
          <p:nvPr/>
        </p:nvPicPr>
        <p:blipFill>
          <a:blip r:embed="rId1"/>
          <a:stretch/>
        </p:blipFill>
        <p:spPr>
          <a:xfrm>
            <a:off x="4267080" y="3825720"/>
            <a:ext cx="4876920" cy="30322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"/>
          <p:cNvPicPr/>
          <p:nvPr/>
        </p:nvPicPr>
        <p:blipFill>
          <a:blip r:embed="rId2"/>
          <a:srcRect l="0" t="0" r="13228" b="0"/>
          <a:stretch/>
        </p:blipFill>
        <p:spPr>
          <a:xfrm>
            <a:off x="214200" y="4500720"/>
            <a:ext cx="4143600" cy="11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840096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Линейчатые спектры  дают все вещества в газообразном атомарном (но не молекулярном) состоянии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285840" y="1857240"/>
            <a:ext cx="840096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пектры  - цветные линии различной яркости, разделенные широкими темными полосами.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вет излучают  атомы , которые практически не взаимодействуют друг с другом. 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ещество излучает свет только вполне определенных длин волн 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Номер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1BE1-48F1-4CA1-8249-DDAAB52D70C9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Picture 2" descr="http://rushkolnik.ru/tw_files2/urls_3/1057/d-1056311/7z-docs/1_html_m7a5538ba.jpg"/>
          <p:cNvPicPr/>
          <p:nvPr/>
        </p:nvPicPr>
        <p:blipFill>
          <a:blip r:embed="rId1"/>
          <a:stretch/>
        </p:blipFill>
        <p:spPr>
          <a:xfrm>
            <a:off x="3857760" y="4286160"/>
            <a:ext cx="528624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 </a:t>
            </a:r>
            <a:r>
              <a:rPr b="0" lang="ru-RU" sz="3200" spc="-1" strike="noStrike">
                <a:solidFill>
                  <a:srgbClr val="ff0000"/>
                </a:solidFill>
                <a:latin typeface="Trebuchet MS"/>
              </a:rPr>
              <a:t>Распределение спектральной плотности интенсивности излучения в линейчатом спектре. 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ждая линия имеет конечную ширин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CA5E-57ED-4E29-B8D9-A0D905375287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Picture 2" descr="C:\Users\млн\Desktop\ris48.gif"/>
          <p:cNvPicPr/>
          <p:nvPr/>
        </p:nvPicPr>
        <p:blipFill>
          <a:blip r:embed="rId1"/>
          <a:stretch/>
        </p:blipFill>
        <p:spPr>
          <a:xfrm>
            <a:off x="928800" y="3571920"/>
            <a:ext cx="66164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14200" y="500040"/>
            <a:ext cx="8715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Полосатые спектры  дают все вещества в газообразном молекулярном состоянии – свечение паров в пламени, свечение газового разряда.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0" y="1785960"/>
            <a:ext cx="91440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   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лосатые спектры состоят из отдельных полос, разделенных темными промежутками, образуются  молекулами, не связанными или слабо связанными друг с другом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Распределение спектральной                                             плотности интенсивности                                             излучения в полосато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пектре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Номер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AB9D-5B75-4228-9E15-262C7FFBBA8D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Picture 5" descr=""/>
          <p:cNvPicPr/>
          <p:nvPr/>
        </p:nvPicPr>
        <p:blipFill>
          <a:blip r:embed="rId1"/>
          <a:stretch/>
        </p:blipFill>
        <p:spPr>
          <a:xfrm>
            <a:off x="1677960" y="1857240"/>
            <a:ext cx="5894280" cy="857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55" name="Рисунок 5" descr="Полосатый спектр.gif"/>
          <p:cNvPicPr/>
          <p:nvPr/>
        </p:nvPicPr>
        <p:blipFill>
          <a:blip r:embed="rId2"/>
          <a:stretch/>
        </p:blipFill>
        <p:spPr>
          <a:xfrm>
            <a:off x="5643720" y="4214880"/>
            <a:ext cx="3500280" cy="242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Спектры поглощ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071720"/>
            <a:ext cx="8229600" cy="55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ещество интенсивно поглощает свет тех длин волн, которые оно поглощает в сильно нагретом состояни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FDFC-1C52-4FE7-A2D9-D201F4AE816C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Picture 2" descr="Спектры испускания и поглощения"/>
          <p:cNvPicPr/>
          <p:nvPr/>
        </p:nvPicPr>
        <p:blipFill>
          <a:blip r:embed="rId1"/>
          <a:stretch/>
        </p:blipFill>
        <p:spPr>
          <a:xfrm>
            <a:off x="928800" y="2268360"/>
            <a:ext cx="764388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15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Спектральный анализ –вид анализа химического  состава  вещества  по его спектру. </a:t>
            </a:r>
            <a:br>
              <a:rPr sz="32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2642760"/>
            <a:ext cx="822960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3316"/>
                </a:solidFill>
                <a:latin typeface="Georgia"/>
              </a:rPr>
              <a:t>    </a:t>
            </a:r>
            <a:r>
              <a:rPr b="1" lang="ru-RU" sz="2800" spc="-1" strike="noStrike">
                <a:solidFill>
                  <a:srgbClr val="623316"/>
                </a:solidFill>
                <a:latin typeface="Georgia"/>
              </a:rPr>
              <a:t>Атомы любого химического элемента дают спектр, не похожий на спектры всех других элементов: они способны излучать строго определенный набор длин волн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Номер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903B-AE8F-41F0-AE1C-882A751CAAFD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Линейчатые спектры некоторых элементов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дм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убид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Цин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Номер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317B-A331-4B91-A26E-56C95C8ED147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2" descr=""/>
          <p:cNvPicPr/>
          <p:nvPr/>
        </p:nvPicPr>
        <p:blipFill>
          <a:blip r:embed="rId1"/>
          <a:srcRect l="38515" t="18019" r="40266" b="43439"/>
          <a:stretch/>
        </p:blipFill>
        <p:spPr>
          <a:xfrm>
            <a:off x="1214280" y="2500200"/>
            <a:ext cx="258768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03:44:20Z</dcterms:created>
  <dc:creator>User</dc:creator>
  <dc:description/>
  <dc:language>en-US</dc:language>
  <cp:lastModifiedBy>Хава</cp:lastModifiedBy>
  <dcterms:modified xsi:type="dcterms:W3CDTF">2023-01-18T08:42:12Z</dcterms:modified>
  <cp:revision>276</cp:revision>
  <dc:subject/>
  <dc:title>"От живого созерцания – к научному познанию" </dc:title>
</cp:coreProperties>
</file>